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084-366C-484F-9BF8-A1A536DD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234-C820-4C0F-AE75-8763F367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AA8-2E52-4316-A503-0D062DFD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E05F-BD46-4425-B471-EA584A2F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E0B5-F38A-4E13-B8ED-FA048E56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B35-BD0B-49CF-B009-E4867D05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0F27-A5EA-461A-A9D1-928F873D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DBE5-C6BC-44E6-B924-CC118656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0084-5C5D-4144-9F46-BD1278D3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1D4-4C93-4967-A924-692F1A61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7EA-3F0F-48A3-8396-42C5A3C8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5D66-0F50-414A-AC44-C252642A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2315-5D81-4CA4-A62A-FF0250AE0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6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0666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le (mol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grouping of representative particles (what is present:  atoms, molecules, formula units) of a sub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82880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6.0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alled Avogadro’s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I unit for measuring the amount of sub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880" y="3048120"/>
            <a:ext cx="18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581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articles to mo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4191120"/>
            <a:ext cx="7467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1st%20001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599240" cy="1096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14400" y="5334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sample problem 10.2 (pg 291), then do 3 and 4 in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les to p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2nd%20001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599240" cy="1242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90720" y="22096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sample problem 10.3, then do 5 and 6 in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51460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of a mole of an element (molar m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tomic mass of an element expressed in grams (chosen because of convenience) is the mass of a mole of an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40384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Carbon – 12 amu = 12 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gen – 1 amu = 1 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of a mole of a comp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06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eed to know the formula of a comp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6002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one sulfur and 3 oxy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2209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n, just add up the atomic masses of the atom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hmm, where can I find the atomic masses of element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3200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32.1 amu  +  O: 16 (x3) = 48 amu = 80.1 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657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inally, substitute grams for 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4267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sample problem 10.4 on page 296, then do problems 7 and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2:05:50Z</dcterms:created>
  <dc:creator>jpak</dc:creator>
  <dc:description/>
  <dc:language>en-US</dc:language>
  <cp:lastModifiedBy>Farwell Area Schools</cp:lastModifiedBy>
  <dcterms:modified xsi:type="dcterms:W3CDTF">2008-11-10T18:41:06Z</dcterms:modified>
  <cp:revision>5</cp:revision>
  <dc:subject/>
  <dc:title>Note Guide 6-1</dc:title>
</cp:coreProperties>
</file>